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A559-653F-445C-96BB-17FD62818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dedunn.edublogs.org/2011/06/08/structure-of-dna-and-rna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phschool.com/science/biology_place/biocoach/transcription/chain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tanford.edu/group/ccr/blog/2009/04/a_closer_look_1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urpleopurple.com/inventions-and-inventors/structure-of-DN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giangleblog.wordpress.com/2011/05/02/edit-5-dna-structure-group-b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iology.lsu.edu/introbio/summer/Summer2004/1201/RF/Chapter%205%20review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A00-440A-4CDA-87C9-0A648796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01B7-609B-40C7-B821-A063E790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789-D239-4476-83CE-B4F2C91B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4BBC-53E1-4C4F-B8A2-52706953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419-8EF2-4182-81DB-15637D97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D13-C5DF-4FAA-B87E-C920AFAF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D5B-D7E5-4BCB-B555-47A45F93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F06-ED3A-4A1B-A69D-F6D24A3B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73B7-7A6D-46AA-90EB-BF6806D4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BEA4-3729-4E89-9E49-DFE4E0F6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D73F-19F2-48D1-9423-1E1BE88C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F27-556F-43DE-88C5-93FD5613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B3D5-9EB6-405A-B645-D53DDD636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nalc.org/view/15014-Franklin-s-X-ray-diffraction-explanation-of-X-ray-pattern-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naftb.org/dnaftb/19/concept/index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73440" y="1981080"/>
            <a:ext cx="359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RNA Directi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25680" y="1981080"/>
            <a:ext cx="429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ebus Levene (1920’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d the 3 component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oxyribose 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nitrogenous bases identified by 19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win Chargaff (19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DNA from different organisms and measured levels of each of the 4 nitrogenou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adenine = amt. of thy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cytosine = amt. of gua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salind Frank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X-ray diffraction images of DNA that suggested its double helix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eter 2nm, one turn 3.4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lc.org/view/15014-Franklin-s-X-ray-diffraction-explanation-of-X-ray-pattern-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2120760"/>
            <a:ext cx="38098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 Watson &amp; Francis Crick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results from Chargaff &amp; Franklin’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a model of DNA with a double helix of 2 anti-parallel 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 the Nobel Prize in 1962 (with Maurice Wilkins) for deducing the structure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dnaftb/19/concept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97000" y="609480"/>
            <a:ext cx="4950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1.5 p.45-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er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ucleot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carbon sugar (ribose or deoxy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ous bas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 group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8320" y="253368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46240" y="1981080"/>
            <a:ext cx="505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dc:language>en-US</dc:language>
  <cp:lastModifiedBy>rubina khan</cp:lastModifiedBy>
  <dcterms:modified xsi:type="dcterms:W3CDTF">2012-11-08T11:17:20Z</dcterms:modified>
  <cp:revision>82</cp:revision>
  <dc:subject/>
  <dc:title>Molecular Genetics</dc:title>
</cp:coreProperties>
</file>